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AD0B-7B62-4471-AB61-4A1769343304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1D3A867A-C41A-4CC6-8FB4-8C0314D72559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co_intro.pp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co.sprk.org/" TargetMode="External"/><Relationship Id="rId2" Type="http://schemas.openxmlformats.org/officeDocument/2006/relationships/hyperlink" Target="file://dbgs2/deveng/cc/gpf/projects/pco/delivery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PCO-Training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background and practical usage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Introductional Slideshow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1600" y="91440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Where can I get PCO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browse to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1"/>
              </a:rPr>
              <a:t>http://pco.sprk.org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which will redirect you to the PCO delivery area at </a:t>
            </a:r>
            <a:r>
              <a:rPr b="0" lang="de-DE" sz="2400" spc="-1" strike="noStrike" u="sng">
                <a:solidFill>
                  <a:srgbClr val="6699ff"/>
                </a:solidFill>
                <a:uFillTx/>
                <a:latin typeface="Arial"/>
                <a:hlinkClick r:id="rId2"/>
              </a:rPr>
              <a:t>\\dbgs2\deveng\cc\gpf\projects\pco\delivery\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new versions are always announced in the PCO mailing list: </a:t>
            </a: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pco@list.ti.com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How do I start it ?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after a local installation you will find dedicated entries in the windows start menu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... and also icons on the desktop: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09480" y="5105520"/>
            <a:ext cx="3505320" cy="990360"/>
            <a:chOff x="609480" y="5105520"/>
            <a:chExt cx="3505320" cy="990360"/>
          </a:xfrm>
        </p:grpSpPr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609480" y="5105520"/>
              <a:ext cx="8892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523880" y="5181480"/>
              <a:ext cx="2590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pco test environmen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5680" y="5029200"/>
            <a:ext cx="4496040" cy="1143000"/>
            <a:chOff x="4495680" y="5029200"/>
            <a:chExt cx="4496040" cy="11430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4495680" y="5105160"/>
              <a:ext cx="91440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562720" y="5029200"/>
              <a:ext cx="3429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start GenTLE from within, e.g., PCO may be start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bug track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roblem can not be solved easily ?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create a dedicated conquest issu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" y="1066680"/>
            <a:ext cx="8001000" cy="2286000"/>
            <a:chOff x="457200" y="1066680"/>
            <a:chExt cx="8001000" cy="2286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477120" y="1981080"/>
              <a:ext cx="12776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7200" y="1066680"/>
              <a:ext cx="80010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When you think you found a problem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or example an air message can not be decoded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first look up the documention 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search the GPF-FAQ:</a:t>
              </a:r>
              <a:br>
                <a:rPr sz="2400"/>
              </a:br>
              <a:r>
                <a:rPr b="1" lang="de-DE" sz="2000" spc="-1" strike="noStrike">
                  <a:solidFill>
                    <a:srgbClr val="003069"/>
                  </a:solidFill>
                  <a:latin typeface="Arial"/>
                </a:rPr>
                <a:t>http://bg-board.itg.ti.com:8080/GPF-WhiteBoard/10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57200" y="3276720"/>
            <a:ext cx="7924680" cy="1752480"/>
            <a:chOff x="457200" y="3276720"/>
            <a:chExt cx="7924680" cy="1752480"/>
          </a:xfrm>
        </p:grpSpPr>
        <p:sp>
          <p:nvSpPr>
            <p:cNvPr id="99" name=""/>
            <p:cNvSpPr/>
            <p:nvPr/>
          </p:nvSpPr>
          <p:spPr>
            <a:xfrm>
              <a:off x="457200" y="3276720"/>
              <a:ext cx="79246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No solution found ?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use the „moan button“ to send me a dedicated mail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069"/>
                  </a:solidFill>
                  <a:latin typeface="Arial"/>
                </a:rPr>
                <a:t>... or just call 1332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5410080" y="4267080"/>
              <a:ext cx="609840" cy="52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-Training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air message 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What does PCO need to decod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Direction            Entity-Nr (Catalogue)           Msg-ID</a:t>
            </a:r>
            <a:br>
              <a:rPr sz="1400"/>
            </a:b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                                          </a:t>
            </a:r>
            <a:endParaRPr b="0" lang="en-US" sz="1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 the sdu-len/-offset is changed in primitive handler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 macro PPASS() to ensure that PCO gets the original on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828800"/>
          <a:ext cx="8077320" cy="380880"/>
        </p:xfrm>
        <a:graphic>
          <a:graphicData uri="http://schemas.openxmlformats.org/drawingml/2006/table">
            <a:tbl>
              <a:tblPr/>
              <a:tblGrid>
                <a:gridCol w="700200"/>
                <a:gridCol w="442800"/>
                <a:gridCol w="990720"/>
                <a:gridCol w="1295280"/>
                <a:gridCol w="381240"/>
                <a:gridCol w="838080"/>
                <a:gridCol w="76212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OPC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len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Sdu-offset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TI/P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M-ID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576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3069"/>
                          </a:solidFill>
                          <a:latin typeface="Arial"/>
                        </a:rPr>
                        <a:t>Encoded AIM</a:t>
                      </a:r>
                      <a:endParaRPr b="0" lang="en-US" sz="1800" spc="-1" strike="noStrike">
                        <a:solidFill>
                          <a:srgbClr val="00306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069"/>
                      </a:solidFill>
                    </a:lnL>
                    <a:lnR w="13680">
                      <a:solidFill>
                        <a:srgbClr val="003069"/>
                      </a:solidFill>
                    </a:lnR>
                    <a:lnT w="13680">
                      <a:solidFill>
                        <a:srgbClr val="003069"/>
                      </a:solidFill>
                    </a:lnT>
                    <a:lnB w="13680">
                      <a:solidFill>
                        <a:srgbClr val="00306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5" name=""/>
          <p:cNvGrpSpPr/>
          <p:nvPr/>
        </p:nvGrpSpPr>
        <p:grpSpPr>
          <a:xfrm>
            <a:off x="990720" y="1447920"/>
            <a:ext cx="4572000" cy="380880"/>
            <a:chOff x="990720" y="1447920"/>
            <a:chExt cx="4572000" cy="380880"/>
          </a:xfrm>
        </p:grpSpPr>
        <p:sp>
          <p:nvSpPr>
            <p:cNvPr id="106" name=""/>
            <p:cNvSpPr/>
            <p:nvPr/>
          </p:nvSpPr>
          <p:spPr>
            <a:xfrm flipV="1">
              <a:off x="990720" y="1523520"/>
              <a:ext cx="761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4190760" y="1523520"/>
              <a:ext cx="6094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447920"/>
              <a:ext cx="152640" cy="38088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28954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If, e.g., no PD is transmitted with sdu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pecial rules can be defined in ccddata-DLL to, e.g., assume entity RR for all sdu in primitives named like RR_xxx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currently not automated (no info in aim documents) </a:t>
            </a:r>
            <a:r>
              <a:rPr b="1" lang="de-DE" sz="1800" spc="-1" strike="noStrike">
                <a:solidFill>
                  <a:srgbClr val="003069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191120"/>
            <a:ext cx="4114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Ms can be inserted manually into a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4114800" cy="816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09480" y="5105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explicitely trace a pure air message 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macro TRACE_SDU(...) could be used, but currently no dedicted OPC is defined which could be handled in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lready used TRACE_BINDUMP() provides hexdump only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24T08:20:11Z</dcterms:modified>
  <cp:revision>128</cp:revision>
  <dc:subject/>
  <dc:title>PowerPoint-Präsentation</dc:title>
</cp:coreProperties>
</file>